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C100-E819-44A5-96F4-DFD14168D4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4508-FDC6-4113-A5C9-3DDEFEA9AC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9D74-79A3-4B60-A366-E6AB36D03D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DFB7-2587-4EC0-BFF5-E85E06C1FE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B0FB-3229-4CC5-94EE-EC8DC7ABC0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044E-D624-4CDB-9AE9-611B1D2728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0257-59A0-459B-A257-342131A1B9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CE7A-C55E-4C2B-B33C-3947580FAD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84E7-8868-43A3-87C1-6C4C5C73BC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38A7-D974-4CD0-9AB6-17EF0A6620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5199-5A90-4A1C-A15D-6BE655BEF7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FAA-5E0C-4FBD-9D52-4192C202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01D-CAF2-4677-AAD9-E3A30C54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6B5-137E-455C-A9DA-4A15EF61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543-D0FA-4E75-9720-3B77C726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CC26-93B4-43A3-9CAB-68E895B5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BDEC-13A6-4FC6-BF9A-68E45312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86D8-7DB2-4D2F-B030-C2B1BD2F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AA57-F272-4F74-9936-0A5F217F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77D5-F998-4DD6-BB10-75EE1EE6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4AE7-6F15-41F2-AB26-8F56F4CF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38CB-99A5-411B-8F3B-205D1780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ED6-64D8-4FC5-A6BA-14114CFE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856F-D868-4472-B01A-7311C6E6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781F-46BA-4ADE-BABA-2FF4AEA2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83FC-4739-4F11-8777-2166DB26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41F7-E8C0-47E2-A071-1E53E521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E57C-4515-44C9-A1C7-7550D776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ED6-1743-48B9-AC8B-435B5024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68E-BE1B-45D0-A506-88518203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67A-7456-44A9-9729-4EA53F92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6F4-BD3E-4844-B8D3-A6F0BB97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81C-9651-4F01-98D4-433C1228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BA1-2DDD-4EB4-8664-CB8C9FA4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084-D966-46C1-892F-8A98E747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C852-E4DE-4053-A8DB-03216B46AF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83F2-E2F9-4856-AAB7-AAA11053CB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03788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66"/>
                </a:solidFill>
                <a:latin typeface="Times New Roman"/>
              </a:rPr>
              <a:t>The role of ‘self’ in anthropological 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jaak van der Ge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roup and plenary discussion about own research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cribe th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tance red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iscove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per ins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Conclud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tiv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tual ‘exploitation’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endipity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field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 recep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rospection / reflex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[examples from medical anthropolog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25560" y="0"/>
            <a:ext cx="8219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hared experience is basis of understanding: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es distance between researcher 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ads to new disco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duces deeper insights (cognitively, emotion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Personal experie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aling / c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iting for transport and trav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lling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1: In a nursing h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: helping in car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overy: not eating / 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ight: “a good day if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man, R. (2005) Verplegen bij versterven: De meerwaarde van intensief participeren [Nursing and ’versterven’: The surplus of intensive participation]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WALO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: 20-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Limitations of particip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tricted range of activities / aspects of life (poverty, sickness, religion, sex, hunger, fear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lf-hearted (observing at the same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tuit (existential meaning of experien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2: Motherhood and childcare in Domin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ucing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ual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w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meich, A. (1994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he blessings of motherhood: Health, pregnancy and child care in Dominica.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sterdam: Het Spinhu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Example 3: Having canc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tical vs horizontal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e-person 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u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e un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jhof, G. (2001)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iekenwerk. Een kleine sociologie van alledaags ziekenl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[Sick work: A small sociology of everyday sick life].Amsterdam: Aks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3:45:31Z</dcterms:created>
  <dc:creator>Sjaak</dc:creator>
  <dc:description/>
  <dc:language>en-US</dc:language>
  <cp:lastModifiedBy>Owner</cp:lastModifiedBy>
  <dcterms:modified xsi:type="dcterms:W3CDTF">2013-11-18T13:57:47Z</dcterms:modified>
  <cp:revision>5</cp:revision>
  <dc:subject/>
  <dc:title>The ‘philosophy’ of anthropological fieldwork</dc:title>
</cp:coreProperties>
</file>